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7D1-D4E6-4D6D-839B-5DA344BD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79A-0DAE-4574-95CD-243FBAF3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931-1A19-4769-BC59-080DC4AF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BA3-4306-4237-90CA-166550F7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A18-E9AE-4FCA-BA0A-E499EF03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B84-99AA-470B-B79F-D57C4399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C0A-C49C-4E60-AB3D-11E1A7C4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456-ED79-461A-AB3A-084F9808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444-660D-4A2E-919A-68C23655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A47-052E-48DC-B6F1-78DB80C8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C1E-791A-48EF-81E0-9A72EFC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532-ECC8-456D-B5FA-9C57F5D2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757C-3E99-4182-B26B-067D3F586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28"/>
          <p:cNvSpPr/>
          <p:nvPr/>
        </p:nvSpPr>
        <p:spPr>
          <a:xfrm>
            <a:off x="0" y="1752480"/>
            <a:ext cx="9144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0000"/>
                </a:solidFill>
                <a:latin typeface="Times New Roman"/>
              </a:rPr>
              <a:t>ANALYSE ERGONOMIQUE </a:t>
            </a:r>
            <a:r>
              <a:rPr b="1" lang="fr-FR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FR" sz="4400" spc="-1" strike="noStrike">
                <a:solidFill>
                  <a:srgbClr val="cc0000"/>
                </a:solidFill>
                <a:latin typeface="Times New Roman"/>
              </a:rPr>
              <a:t>DE L’ACTIV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Wingdings 3"/>
                <a:ea typeface="Wingdings 3"/>
              </a:rPr>
              <a:t>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çu par Kerguelen (1986) pour faciliter le traitement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des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onnées d’observations chron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80880" y="3122640"/>
            <a:ext cx="883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ypes de relevé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qu’il utilis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es relevés d’observations comportem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es mesures numéri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43080" y="5715000"/>
            <a:ext cx="8458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GUELEN (1986)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observation systématique en ergonomie : élaboration d'un logiciel d'aide au recueil et à l'analyse des données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émoire présenté en vue de l'obtention du diplôme d'ergonomie du CNAM. 67p.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22860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itial KRONOS 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ctogram KR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81916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atr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ypes de document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ont gérés par Kro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spcBef>
                <a:spcPts val="349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. Les protocoles de description </a:t>
            </a:r>
            <a:r>
              <a:rPr b="1" i="1" lang="fr-FR" sz="2800" spc="-1" strike="noStrike">
                <a:solidFill>
                  <a:srgbClr val="cc0000"/>
                </a:solidFill>
                <a:latin typeface="Times New Roman"/>
              </a:rPr>
              <a:t>(Quoi Regarder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b. Les relevés d’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. Les séque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. Les résultats sous différentes formes ( graphiques, tableaux statistiques,histogrammes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120" y="1752120"/>
            <a:ext cx="8800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s’agit de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ablea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ontenan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s observab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qui seront pris en compte dans l’ob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ligne d’un tableau commence par u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ant à u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différentes colonnes accueillent des informations utiles pour l’exploitation des données. Ex: l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nne clas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éfinit quels événements sont exclusifs les uns des aut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e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protocoles de description doivent être conçus avant les relev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821600" y="914400"/>
            <a:ext cx="56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. Les protocoles d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913400" y="914400"/>
            <a:ext cx="53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. Le protocole d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cc0000"/>
                </a:solidFill>
                <a:uFillTx/>
                <a:latin typeface="Times New Roman"/>
              </a:rPr>
              <a:t>Observable</a:t>
            </a:r>
            <a:r>
              <a:rPr b="1" i="1" lang="fr-F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 Évènement qui sera pris en compte pour l’analyse de l’activit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cc0000"/>
                </a:solidFill>
                <a:uFillTx/>
                <a:latin typeface="Times New Roman"/>
              </a:rPr>
              <a:t>Classe</a:t>
            </a:r>
            <a:r>
              <a:rPr b="1" i="1" lang="fr-FR" sz="2800" spc="-1" strike="noStrike">
                <a:solidFill>
                  <a:srgbClr val="cc0000"/>
                </a:solidFill>
                <a:latin typeface="Times New Roman"/>
              </a:rPr>
              <a:t> 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éfinit à quelle classe d’événement appartient l’évèn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Un événement interrompt l’état défini par le dernier événement de la même cla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oneTexte 1"/>
          <p:cNvSpPr/>
          <p:nvPr/>
        </p:nvSpPr>
        <p:spPr>
          <a:xfrm>
            <a:off x="3446640" y="3295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déo Proj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E:\Utilisateurs\GERARD\Etude D.U\GE\Photos\protocole.bmp"/>
          <p:cNvPicPr/>
          <p:nvPr/>
        </p:nvPicPr>
        <p:blipFill>
          <a:blip r:embed="rId1"/>
          <a:srcRect l="0" t="6251" r="0" b="0"/>
          <a:stretch/>
        </p:blipFill>
        <p:spPr>
          <a:xfrm>
            <a:off x="1143000" y="2209680"/>
            <a:ext cx="7620120" cy="41911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-19080" y="2690640"/>
            <a:ext cx="1238400" cy="561240"/>
          </a:xfrm>
          <a:prstGeom prst="wedgeRoundRectCallout">
            <a:avLst>
              <a:gd name="adj1" fmla="val 89606"/>
              <a:gd name="adj2" fmla="val 16756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lonne des codes sais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466560" y="1674720"/>
            <a:ext cx="2457720" cy="331560"/>
          </a:xfrm>
          <a:prstGeom prst="wedgeRoundRectCallout">
            <a:avLst>
              <a:gd name="adj1" fmla="val 95634"/>
              <a:gd name="adj2" fmla="val 55346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lonne des dénomin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3886200" y="1733400"/>
            <a:ext cx="2362320" cy="331560"/>
          </a:xfrm>
          <a:prstGeom prst="wedgeRoundRectCallout">
            <a:avLst>
              <a:gd name="adj1" fmla="val 16185"/>
              <a:gd name="adj2" fmla="val 52396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lonne des observ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6596640" y="1657440"/>
            <a:ext cx="1794600" cy="331560"/>
          </a:xfrm>
          <a:prstGeom prst="wedgeRoundRectCallout">
            <a:avLst>
              <a:gd name="adj1" fmla="val -78657"/>
              <a:gd name="adj2" fmla="val 60693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lonne des 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1900800" y="868320"/>
            <a:ext cx="53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. Le protocole d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533520" y="3225960"/>
            <a:ext cx="1143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2362320" y="193032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0"/>
          <p:cNvSpPr/>
          <p:nvPr/>
        </p:nvSpPr>
        <p:spPr>
          <a:xfrm flipV="1">
            <a:off x="4572000" y="2006640"/>
            <a:ext cx="533520" cy="16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1"/>
          <p:cNvSpPr/>
          <p:nvPr/>
        </p:nvSpPr>
        <p:spPr>
          <a:xfrm flipV="1">
            <a:off x="6781680" y="1980720"/>
            <a:ext cx="76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2278080" y="99072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b. Relevés d’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791320" y="253044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s peuvent être obtenus en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isie manuel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clavier ou à partir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'enregistreurs d'événement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rcRect l="10847" t="1411" r="10847" b="21130"/>
          <a:stretch/>
        </p:blipFill>
        <p:spPr>
          <a:xfrm>
            <a:off x="76320" y="2286000"/>
            <a:ext cx="5257800" cy="390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76320" y="15238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’agit des tableaux où chaque ligne correspond à un événement daté (par défaut : horaire du systèm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9" descr="E:\Utilisateurs\GERARD\Etude D.U\GE\Photos\donnees.bmp"/>
          <p:cNvPicPr/>
          <p:nvPr/>
        </p:nvPicPr>
        <p:blipFill>
          <a:blip r:embed="rId2"/>
          <a:srcRect l="0" t="10242" r="63313" b="62903"/>
          <a:stretch/>
        </p:blipFill>
        <p:spPr>
          <a:xfrm>
            <a:off x="6248520" y="5029200"/>
            <a:ext cx="2649240" cy="12193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2"/>
          <p:cNvSpPr/>
          <p:nvPr/>
        </p:nvSpPr>
        <p:spPr>
          <a:xfrm rot="3063000">
            <a:off x="5181120" y="4572360"/>
            <a:ext cx="1371600" cy="60948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E:\Utilisateurs\GERARD\Etude D.U\GE\Photos\donnees.bmp"/>
          <p:cNvPicPr/>
          <p:nvPr/>
        </p:nvPicPr>
        <p:blipFill>
          <a:blip r:embed="rId1"/>
          <a:stretch/>
        </p:blipFill>
        <p:spPr>
          <a:xfrm>
            <a:off x="855720" y="1981080"/>
            <a:ext cx="7450200" cy="4684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3"/>
          <p:cNvSpPr/>
          <p:nvPr/>
        </p:nvSpPr>
        <p:spPr>
          <a:xfrm>
            <a:off x="152280" y="1600200"/>
            <a:ext cx="1905120" cy="331560"/>
          </a:xfrm>
          <a:prstGeom prst="wedgeRoundRectCallout">
            <a:avLst>
              <a:gd name="adj1" fmla="val 36736"/>
              <a:gd name="adj2" fmla="val 54869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L’heure du systè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076640" y="1600200"/>
            <a:ext cx="1295640" cy="331560"/>
          </a:xfrm>
          <a:prstGeom prst="wedgeRoundRectCallout">
            <a:avLst>
              <a:gd name="adj1" fmla="val -101944"/>
              <a:gd name="adj2" fmla="val 68633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L’évé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366200" y="944640"/>
            <a:ext cx="64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b. Relevés d’observations (Donné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143000" y="1905120"/>
            <a:ext cx="8380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3505320" y="1905120"/>
            <a:ext cx="106668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1"/>
          <p:cNvSpPr/>
          <p:nvPr/>
        </p:nvSpPr>
        <p:spPr>
          <a:xfrm>
            <a:off x="3416400" y="99072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c. Sé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380880" y="1676520"/>
            <a:ext cx="83822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’agit d’enchaînements d’items (code d’observable ou de classes d’observables) définis par l’utilisateur et dont on peut effectuer la recherche dans les données d’observation.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457200" y="4200480"/>
            <a:ext cx="82296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s sont des réponses à des questions du type :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Qu'est-ce qui précède tel événem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- Qu'est-ce qui lui succède ?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479400" y="99072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. Résult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1863720"/>
            <a:ext cx="8763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util Kronos permet de connaî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e d’activité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quencement des observabl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ènements simultanés (ex : action associée à une posture)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partition des observables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ivant leur classe en terme de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centages d’effectifs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duré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haque observable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cc0000"/>
                </a:solidFill>
                <a:latin typeface="Times New Roman"/>
              </a:rPr>
              <a:t>Les différentes étapes de l’analyse ergonomiqu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260360" y="2286000"/>
            <a:ext cx="1336680" cy="762120"/>
          </a:xfrm>
          <a:prstGeom prst="rect">
            <a:avLst/>
          </a:prstGeom>
          <a:solidFill>
            <a:srgbClr val="e2ff0b"/>
          </a:solidFill>
          <a:ln w="12600">
            <a:solidFill>
              <a:srgbClr val="e2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Analys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la Dem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065400" y="2971800"/>
            <a:ext cx="1336680" cy="762120"/>
          </a:xfrm>
          <a:prstGeom prst="rect">
            <a:avLst/>
          </a:prstGeom>
          <a:solidFill>
            <a:srgbClr val="e2ff0b"/>
          </a:solidFill>
          <a:ln w="12600">
            <a:solidFill>
              <a:srgbClr val="e2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Analys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la Situ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Glob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911840" y="3657600"/>
            <a:ext cx="1336680" cy="762120"/>
          </a:xfrm>
          <a:prstGeom prst="rect">
            <a:avLst/>
          </a:prstGeom>
          <a:solidFill>
            <a:srgbClr val="e2ff0b"/>
          </a:solidFill>
          <a:ln w="12600">
            <a:solidFill>
              <a:srgbClr val="e2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Analys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L’Activ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6781680" y="4343400"/>
            <a:ext cx="1336680" cy="762120"/>
          </a:xfrm>
          <a:prstGeom prst="rect">
            <a:avLst/>
          </a:prstGeom>
          <a:solidFill>
            <a:srgbClr val="e2ff0b"/>
          </a:solidFill>
          <a:ln w="12600">
            <a:solidFill>
              <a:srgbClr val="e2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Résult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7"/>
          <p:cNvSpPr/>
          <p:nvPr/>
        </p:nvSpPr>
        <p:spPr>
          <a:xfrm>
            <a:off x="4273560" y="1600200"/>
            <a:ext cx="2813040" cy="8380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2ff0b"/>
                </a:solidFill>
                <a:latin typeface="Times New Roman"/>
              </a:rPr>
              <a:t>Connaissances de 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8"/>
          <p:cNvSpPr/>
          <p:nvPr/>
        </p:nvSpPr>
        <p:spPr>
          <a:xfrm>
            <a:off x="2154240" y="5105520"/>
            <a:ext cx="2813040" cy="8380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2ff0b"/>
                </a:solidFill>
                <a:latin typeface="Times New Roman"/>
              </a:rPr>
              <a:t>Validations des hypothèse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2ff0b"/>
                </a:solidFill>
                <a:latin typeface="Times New Roman"/>
              </a:rPr>
              <a:t>Et Connaiss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>
            <a:off x="417600" y="2743200"/>
            <a:ext cx="801720" cy="0"/>
          </a:xfrm>
          <a:prstGeom prst="line">
            <a:avLst/>
          </a:prstGeom>
          <a:ln w="2844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95040" y="213372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Times New Roman"/>
              </a:rPr>
              <a:t>Décision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Times New Roman"/>
              </a:rPr>
              <a:t>l’entre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/>
          <p:nvPr/>
        </p:nvCxnSpPr>
        <p:spPr>
          <a:xfrm>
            <a:off x="2590560" y="2666520"/>
            <a:ext cx="508680" cy="686520"/>
          </a:xfrm>
          <a:prstGeom prst="bentConnector3">
            <a:avLst>
              <a:gd name="adj1" fmla="val 50000"/>
            </a:avLst>
          </a:prstGeom>
          <a:ln w="28440">
            <a:solidFill>
              <a:srgbClr val="f07800"/>
            </a:solidFill>
            <a:miter/>
            <a:tailEnd len="med" type="triangle" w="med"/>
          </a:ln>
        </p:spPr>
      </p:cxnSp>
      <p:cxnSp>
        <p:nvCxnSpPr>
          <p:cNvPr id="53" name="AutoShape 12"/>
          <p:cNvCxnSpPr/>
          <p:nvPr/>
        </p:nvCxnSpPr>
        <p:spPr>
          <a:xfrm>
            <a:off x="4444560" y="3352320"/>
            <a:ext cx="508680" cy="686520"/>
          </a:xfrm>
          <a:prstGeom prst="bentConnector3">
            <a:avLst>
              <a:gd name="adj1" fmla="val 50000"/>
            </a:avLst>
          </a:prstGeom>
          <a:ln w="28440">
            <a:solidFill>
              <a:srgbClr val="f07800"/>
            </a:solidFill>
            <a:miter/>
            <a:tailEnd len="med" type="triangle" w="med"/>
          </a:ln>
        </p:spPr>
      </p:cxnSp>
      <p:cxnSp>
        <p:nvCxnSpPr>
          <p:cNvPr id="54" name="AutoShape 13"/>
          <p:cNvCxnSpPr/>
          <p:nvPr/>
        </p:nvCxnSpPr>
        <p:spPr>
          <a:xfrm>
            <a:off x="4560840" y="3352680"/>
            <a:ext cx="2210400" cy="1372320"/>
          </a:xfrm>
          <a:prstGeom prst="bentConnector3">
            <a:avLst>
              <a:gd name="adj1" fmla="val 90503"/>
            </a:avLst>
          </a:prstGeom>
          <a:ln w="28440">
            <a:solidFill>
              <a:srgbClr val="f07800"/>
            </a:solidFill>
            <a:miter/>
            <a:tailEnd len="med" type="triangle" w="med"/>
          </a:ln>
        </p:spPr>
      </p:cxnSp>
      <p:cxnSp>
        <p:nvCxnSpPr>
          <p:cNvPr id="55" name="AutoShape 14"/>
          <p:cNvCxnSpPr/>
          <p:nvPr/>
        </p:nvCxnSpPr>
        <p:spPr>
          <a:xfrm flipV="1" rot="10800000">
            <a:off x="1866240" y="2017800"/>
            <a:ext cx="2477160" cy="2671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15"/>
          <p:cNvCxnSpPr/>
          <p:nvPr/>
        </p:nvCxnSpPr>
        <p:spPr>
          <a:xfrm flipV="1" rot="10800000">
            <a:off x="3733200" y="2018880"/>
            <a:ext cx="521280" cy="9532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Line 16"/>
          <p:cNvSpPr/>
          <p:nvPr/>
        </p:nvSpPr>
        <p:spPr>
          <a:xfrm>
            <a:off x="5621400" y="24382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AutoShape 17"/>
          <p:cNvCxnSpPr/>
          <p:nvPr/>
        </p:nvCxnSpPr>
        <p:spPr>
          <a:xfrm>
            <a:off x="7124760" y="2019240"/>
            <a:ext cx="343440" cy="23248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AutoShape 18"/>
          <p:cNvCxnSpPr/>
          <p:nvPr/>
        </p:nvCxnSpPr>
        <p:spPr>
          <a:xfrm>
            <a:off x="6273360" y="4038120"/>
            <a:ext cx="508680" cy="686520"/>
          </a:xfrm>
          <a:prstGeom prst="bentConnector3">
            <a:avLst>
              <a:gd name="adj1" fmla="val 58711"/>
            </a:avLst>
          </a:prstGeom>
          <a:ln w="28440">
            <a:solidFill>
              <a:srgbClr val="f07800"/>
            </a:solidFill>
            <a:miter/>
            <a:tailEnd len="med" type="triangle" w="med"/>
          </a:ln>
        </p:spPr>
      </p:cxnSp>
      <p:sp>
        <p:nvSpPr>
          <p:cNvPr id="60" name="Line 19"/>
          <p:cNvSpPr/>
          <p:nvPr/>
        </p:nvSpPr>
        <p:spPr>
          <a:xfrm>
            <a:off x="8142120" y="4724280"/>
            <a:ext cx="773280" cy="0"/>
          </a:xfrm>
          <a:prstGeom prst="line">
            <a:avLst/>
          </a:prstGeom>
          <a:ln w="2844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8132760" y="472428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Times New Roman"/>
              </a:rPr>
              <a:t>Suivi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cc0000"/>
                </a:solidFill>
                <a:latin typeface="Times New Roman"/>
              </a:rPr>
              <a:t>réa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AutoShape 21"/>
          <p:cNvCxnSpPr/>
          <p:nvPr/>
        </p:nvCxnSpPr>
        <p:spPr>
          <a:xfrm rot="5400000">
            <a:off x="6019200" y="4000680"/>
            <a:ext cx="419760" cy="26294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22"/>
          <p:cNvCxnSpPr/>
          <p:nvPr/>
        </p:nvCxnSpPr>
        <p:spPr>
          <a:xfrm rot="10800000">
            <a:off x="1904400" y="3047400"/>
            <a:ext cx="191160" cy="24771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23"/>
          <p:cNvCxnSpPr/>
          <p:nvPr/>
        </p:nvCxnSpPr>
        <p:spPr>
          <a:xfrm rot="5400000">
            <a:off x="2926440" y="4298760"/>
            <a:ext cx="1372320" cy="242280"/>
          </a:xfrm>
          <a:prstGeom prst="bentConnector3">
            <a:avLst>
              <a:gd name="adj1" fmla="val 49986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AutoShape 24"/>
          <p:cNvCxnSpPr/>
          <p:nvPr/>
        </p:nvCxnSpPr>
        <p:spPr>
          <a:xfrm rot="5400000">
            <a:off x="4650480" y="4263840"/>
            <a:ext cx="808560" cy="1119960"/>
          </a:xfrm>
          <a:prstGeom prst="bentConnector3">
            <a:avLst>
              <a:gd name="adj1" fmla="val 4240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Oval 25"/>
          <p:cNvSpPr/>
          <p:nvPr/>
        </p:nvSpPr>
        <p:spPr>
          <a:xfrm>
            <a:off x="4495680" y="3200400"/>
            <a:ext cx="2210040" cy="1523880"/>
          </a:xfrm>
          <a:prstGeom prst="ellipse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E:\Utilisateurs\GERARD\Etude D.U\GE\Photos\graphe.bmp"/>
          <p:cNvPicPr/>
          <p:nvPr/>
        </p:nvPicPr>
        <p:blipFill>
          <a:blip r:embed="rId1"/>
          <a:srcRect l="0" t="3281" r="5834" b="0"/>
          <a:stretch/>
        </p:blipFill>
        <p:spPr>
          <a:xfrm>
            <a:off x="266760" y="1676520"/>
            <a:ext cx="8610480" cy="4647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708280" y="944640"/>
            <a:ext cx="37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Le graphe d’activit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E:\Utilisateurs\GERARD\Etude D.U\GE\Photos\stat.bmp"/>
          <p:cNvPicPr/>
          <p:nvPr/>
        </p:nvPicPr>
        <p:blipFill>
          <a:blip r:embed="rId1"/>
          <a:srcRect l="0" t="4769" r="2838" b="2949"/>
          <a:stretch/>
        </p:blipFill>
        <p:spPr>
          <a:xfrm>
            <a:off x="407880" y="1676520"/>
            <a:ext cx="8431200" cy="4419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61320" y="94464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Le tableau de donné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8"/>
          <p:cNvSpPr/>
          <p:nvPr/>
        </p:nvSpPr>
        <p:spPr>
          <a:xfrm>
            <a:off x="914040" y="57150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duite en eff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869080" y="571500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duite en du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1191960" y="990720"/>
            <a:ext cx="68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Résultats sous forme de hist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28"/>
          <p:cNvGrpSpPr/>
          <p:nvPr/>
        </p:nvGrpSpPr>
        <p:grpSpPr>
          <a:xfrm>
            <a:off x="0" y="1981080"/>
            <a:ext cx="4572000" cy="3430800"/>
            <a:chOff x="0" y="1981080"/>
            <a:chExt cx="4572000" cy="3430800"/>
          </a:xfrm>
        </p:grpSpPr>
        <p:pic>
          <p:nvPicPr>
            <p:cNvPr id="149" name="Picture 11" descr="E:\Utilisateurs\GERARD\DU\kronos\g34.bmp"/>
            <p:cNvPicPr/>
            <p:nvPr/>
          </p:nvPicPr>
          <p:blipFill>
            <a:blip r:embed="rId1"/>
            <a:stretch/>
          </p:blipFill>
          <p:spPr>
            <a:xfrm>
              <a:off x="0" y="1981080"/>
              <a:ext cx="4572000" cy="34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9"/>
            <p:cNvSpPr/>
            <p:nvPr/>
          </p:nvSpPr>
          <p:spPr>
            <a:xfrm>
              <a:off x="152280" y="3276720"/>
              <a:ext cx="76212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>
              <a:off x="609480" y="3733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23"/>
            <p:cNvSpPr/>
            <p:nvPr/>
          </p:nvSpPr>
          <p:spPr>
            <a:xfrm>
              <a:off x="3733920" y="3886200"/>
              <a:ext cx="76176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>
              <a:off x="3657600" y="40384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29"/>
          <p:cNvGrpSpPr/>
          <p:nvPr/>
        </p:nvGrpSpPr>
        <p:grpSpPr>
          <a:xfrm>
            <a:off x="4572000" y="1981080"/>
            <a:ext cx="4572000" cy="3430800"/>
            <a:chOff x="4572000" y="1981080"/>
            <a:chExt cx="4572000" cy="3430800"/>
          </a:xfrm>
        </p:grpSpPr>
        <p:pic>
          <p:nvPicPr>
            <p:cNvPr id="155" name="Picture 10" descr="E:\Utilisateurs\GERARD\DU\kronos\g3.bmp"/>
            <p:cNvPicPr/>
            <p:nvPr/>
          </p:nvPicPr>
          <p:blipFill>
            <a:blip r:embed="rId2"/>
            <a:stretch/>
          </p:blipFill>
          <p:spPr>
            <a:xfrm>
              <a:off x="4572000" y="1981080"/>
              <a:ext cx="4572000" cy="34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2"/>
            <p:cNvSpPr/>
            <p:nvPr/>
          </p:nvSpPr>
          <p:spPr>
            <a:xfrm>
              <a:off x="4876920" y="4267080"/>
              <a:ext cx="68580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4"/>
            <p:cNvSpPr/>
            <p:nvPr/>
          </p:nvSpPr>
          <p:spPr>
            <a:xfrm>
              <a:off x="8153280" y="2971800"/>
              <a:ext cx="76212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 flipH="1">
              <a:off x="5257440" y="4114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8229600" y="33523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31"/>
          <p:cNvSpPr/>
          <p:nvPr/>
        </p:nvSpPr>
        <p:spPr>
          <a:xfrm>
            <a:off x="534240" y="122400"/>
            <a:ext cx="810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Actogram -K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04560" y="14479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logiciel Actogram - Kronos pour PC et Macintosh est disponible gratuitement sur le sit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http://www.univ-tlse2.fr/ltc/krono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29"/>
          <p:cNvSpPr/>
          <p:nvPr/>
        </p:nvSpPr>
        <p:spPr>
          <a:xfrm>
            <a:off x="1629360" y="160200"/>
            <a:ext cx="591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CAP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42"/>
          <p:cNvSpPr/>
          <p:nvPr/>
        </p:nvSpPr>
        <p:spPr>
          <a:xfrm>
            <a:off x="152280" y="990720"/>
            <a:ext cx="8839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çu par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N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distribuée par l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ociété FM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la centrale CAPTIV est à la fois u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util d’acquisi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’analyse ergonom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l’activité d’usage ou de trava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outil d’acquisi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– permet l’observation et l’enregistrement de l’activité à l’aide d’u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anc d’observation vidéograph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de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esur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l’activité par intermédiair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es différents capteu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outil d’analyse</a:t>
            </a: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 temps réel,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ar la synchronisation de l’image numérisée de la camera vidéo et des mesures réalisées à l’aide des différents capteu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ost-cod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par l’analyse de la vidéo à l’aide des observables définis par l’observateur (voir démarche KRON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04920" y="1738440"/>
            <a:ext cx="6553080" cy="3284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1629360" y="160200"/>
            <a:ext cx="591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CAP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53341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Verdana"/>
              </a:rPr>
              <a:t>Centrale de mesure et d’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Verdana"/>
              </a:rPr>
              <a:t>CAPT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7315200" y="1066680"/>
            <a:ext cx="1263600" cy="2400480"/>
            <a:chOff x="7315200" y="1066680"/>
            <a:chExt cx="1263600" cy="2400480"/>
          </a:xfrm>
        </p:grpSpPr>
        <p:pic>
          <p:nvPicPr>
            <p:cNvPr id="168" name="Picture 6" descr="..\Photos_centrale\angles.JPG"/>
            <p:cNvPicPr/>
            <p:nvPr/>
          </p:nvPicPr>
          <p:blipFill>
            <a:blip r:embed="rId2"/>
            <a:stretch/>
          </p:blipFill>
          <p:spPr>
            <a:xfrm>
              <a:off x="7315200" y="1066680"/>
              <a:ext cx="126360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7"/>
            <p:cNvSpPr/>
            <p:nvPr/>
          </p:nvSpPr>
          <p:spPr>
            <a:xfrm>
              <a:off x="7391520" y="2895480"/>
              <a:ext cx="11430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Capteurs d’ang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020000" y="3948120"/>
            <a:ext cx="1895400" cy="1461960"/>
            <a:chOff x="7020000" y="3948120"/>
            <a:chExt cx="1895400" cy="1461960"/>
          </a:xfrm>
        </p:grpSpPr>
        <p:pic>
          <p:nvPicPr>
            <p:cNvPr id="171" name="Picture 9" descr="C:\Mes documents\CP53\Soutenance\P1010007.JPG"/>
            <p:cNvPicPr/>
            <p:nvPr/>
          </p:nvPicPr>
          <p:blipFill>
            <a:blip r:embed="rId3"/>
            <a:srcRect l="0" t="0" r="16670" b="14292"/>
            <a:stretch/>
          </p:blipFill>
          <p:spPr>
            <a:xfrm>
              <a:off x="7020000" y="3948120"/>
              <a:ext cx="189540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"/>
            <p:cNvSpPr/>
            <p:nvPr/>
          </p:nvSpPr>
          <p:spPr>
            <a:xfrm>
              <a:off x="7696080" y="4024080"/>
              <a:ext cx="11426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Capteurs de fo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Line 11"/>
          <p:cNvSpPr/>
          <p:nvPr/>
        </p:nvSpPr>
        <p:spPr>
          <a:xfrm flipV="1">
            <a:off x="3886200" y="2424240"/>
            <a:ext cx="3505320" cy="380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3809880" y="2957400"/>
            <a:ext cx="3276720" cy="1447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026"/>
          <p:cNvSpPr/>
          <p:nvPr/>
        </p:nvSpPr>
        <p:spPr>
          <a:xfrm>
            <a:off x="1066680" y="1973160"/>
            <a:ext cx="7010640" cy="47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s Angles (poignet, coude, etc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’Electromyogramme (EM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 la Force Maximale Volontaire (FMV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’Electrocardiogramme (EC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 Press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 tempéra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 bru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esures de poussiè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27"/>
          <p:cNvSpPr/>
          <p:nvPr/>
        </p:nvSpPr>
        <p:spPr>
          <a:xfrm>
            <a:off x="380880" y="914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xemples de mesures réalisables à l’aide de la centrale CAP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28"/>
          <p:cNvSpPr/>
          <p:nvPr/>
        </p:nvSpPr>
        <p:spPr>
          <a:xfrm>
            <a:off x="1629360" y="160200"/>
            <a:ext cx="591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CAP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1631160" y="160200"/>
            <a:ext cx="591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CAP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457200" y="1662120"/>
            <a:ext cx="8381880" cy="4815000"/>
            <a:chOff x="457200" y="1662120"/>
            <a:chExt cx="8381880" cy="4815000"/>
          </a:xfrm>
        </p:grpSpPr>
        <p:pic>
          <p:nvPicPr>
            <p:cNvPr id="180" name="Picture 10" descr="Captiv assemblé"/>
            <p:cNvPicPr/>
            <p:nvPr/>
          </p:nvPicPr>
          <p:blipFill>
            <a:blip r:embed="rId1"/>
            <a:stretch/>
          </p:blipFill>
          <p:spPr>
            <a:xfrm>
              <a:off x="457200" y="1662120"/>
              <a:ext cx="8381880" cy="4815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1" name="Picture 11" descr=""/>
            <p:cNvPicPr/>
            <p:nvPr/>
          </p:nvPicPr>
          <p:blipFill>
            <a:blip r:embed="rId2">
              <a:lum contrast="12000"/>
            </a:blip>
            <a:srcRect l="57366" t="35488" r="32855" b="54142"/>
            <a:stretch/>
          </p:blipFill>
          <p:spPr>
            <a:xfrm>
              <a:off x="457200" y="3414600"/>
              <a:ext cx="4038480" cy="3048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82" name="Text Box 13"/>
          <p:cNvSpPr/>
          <p:nvPr/>
        </p:nvSpPr>
        <p:spPr>
          <a:xfrm>
            <a:off x="1219320" y="1143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80880" y="10666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servation et analyse en temps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6858000" y="1219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ures cap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6"/>
          <p:cNvSpPr/>
          <p:nvPr/>
        </p:nvSpPr>
        <p:spPr>
          <a:xfrm flipV="1">
            <a:off x="7010280" y="1523880"/>
            <a:ext cx="381240" cy="914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5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5562360" cy="4648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"/>
          <p:cNvPicPr/>
          <p:nvPr/>
        </p:nvPicPr>
        <p:blipFill>
          <a:blip r:embed="rId2"/>
          <a:srcRect l="26781" t="13858" r="27980" b="67531"/>
          <a:stretch/>
        </p:blipFill>
        <p:spPr>
          <a:xfrm>
            <a:off x="76320" y="969840"/>
            <a:ext cx="3657600" cy="1239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7"/>
          <p:cNvSpPr/>
          <p:nvPr/>
        </p:nvSpPr>
        <p:spPr>
          <a:xfrm>
            <a:off x="1631160" y="160200"/>
            <a:ext cx="591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Présentation du logiciel CAP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962520" y="10666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post co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685800" y="22096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rotocole de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0"/>
          <p:cNvSpPr/>
          <p:nvPr/>
        </p:nvSpPr>
        <p:spPr>
          <a:xfrm rot="2892000">
            <a:off x="2683800" y="2654280"/>
            <a:ext cx="609480" cy="381240"/>
          </a:xfrm>
          <a:custGeom>
            <a:avLst/>
            <a:gdLst>
              <a:gd name="textAreaLeft" fmla="*/ 106560 w 609480"/>
              <a:gd name="textAreaRight" fmla="*/ 442080 w 6094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057400" y="434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ures cap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1143000" y="46483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onnées comportemen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3886200" y="4266720"/>
            <a:ext cx="3124080" cy="228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3886200" y="4800600"/>
            <a:ext cx="3200400" cy="914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6" descr=""/>
          <p:cNvPicPr/>
          <p:nvPr/>
        </p:nvPicPr>
        <p:blipFill>
          <a:blip r:embed="rId3"/>
          <a:stretch/>
        </p:blipFill>
        <p:spPr>
          <a:xfrm>
            <a:off x="609480" y="5257800"/>
            <a:ext cx="2140200" cy="10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7" name="AutoShape 29"/>
          <p:cNvSpPr/>
          <p:nvPr/>
        </p:nvSpPr>
        <p:spPr>
          <a:xfrm rot="10800000">
            <a:off x="2819160" y="6400440"/>
            <a:ext cx="1143000" cy="304920"/>
          </a:xfrm>
          <a:custGeom>
            <a:avLst/>
            <a:gdLst>
              <a:gd name="textAreaLeft" fmla="*/ 210960 w 1143000"/>
              <a:gd name="textAreaRight" fmla="*/ 817560 w 1143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80" hR="21600" stAng="10800000" swAng="5400000"/>
                <a:lnTo>
                  <a:pt x="11460" y="0"/>
                </a:lnTo>
                <a:arcTo wR="7980" hR="21600" stAng="-5400000" swAng="1850865"/>
                <a:lnTo>
                  <a:pt x="20407" y="10237"/>
                </a:lnTo>
                <a:lnTo>
                  <a:pt x="17700" y="21600"/>
                </a:lnTo>
                <a:lnTo>
                  <a:pt x="12607" y="10237"/>
                </a:lnTo>
                <a:lnTo>
                  <a:pt x="14767" y="10237"/>
                </a:lnTo>
                <a:arcTo wR="7980" hR="21600" stAng="-3549135" swAng="-1567749"/>
                <a:lnTo>
                  <a:pt x="9720" y="520"/>
                </a:lnTo>
                <a:arcTo wR="7980" hR="21600" stAng="-5683115" swAng="-5116885"/>
                <a:close/>
              </a:path>
              <a:path fill="darkenLess" w="21600" h="21600">
                <a:moveTo>
                  <a:pt x="0" y="21600"/>
                </a:moveTo>
                <a:arcTo wR="7980" hR="21600" stAng="10800000" swAng="5400000"/>
                <a:lnTo>
                  <a:pt x="7980" y="0"/>
                </a:lnTo>
                <a:arcTo wR="7980" hR="21600" stAng="-5400000" swAng="283115"/>
                <a:lnTo>
                  <a:pt x="9720" y="520"/>
                </a:lnTo>
                <a:arcTo wR="7980" hR="21600" stAng="-5683115" swAng="-511688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9907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Histogra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2051"/>
          <p:cNvSpPr/>
          <p:nvPr/>
        </p:nvSpPr>
        <p:spPr>
          <a:xfrm>
            <a:off x="990720" y="1219320"/>
            <a:ext cx="7848360" cy="3657600"/>
          </a:xfrm>
          <a:prstGeom prst="ellipse">
            <a:avLst/>
          </a:prstGeom>
          <a:solidFill>
            <a:srgbClr val="f07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052"/>
          <p:cNvSpPr/>
          <p:nvPr/>
        </p:nvSpPr>
        <p:spPr>
          <a:xfrm>
            <a:off x="3200400" y="1676520"/>
            <a:ext cx="3200400" cy="1904760"/>
          </a:xfrm>
          <a:prstGeom prst="triangle">
            <a:avLst>
              <a:gd name="adj" fmla="val 50000"/>
            </a:avLst>
          </a:prstGeom>
          <a:solidFill>
            <a:srgbClr val="e2ff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053"/>
          <p:cNvSpPr/>
          <p:nvPr/>
        </p:nvSpPr>
        <p:spPr>
          <a:xfrm>
            <a:off x="228600" y="2286000"/>
            <a:ext cx="7391520" cy="609480"/>
          </a:xfrm>
          <a:custGeom>
            <a:avLst/>
            <a:gdLst>
              <a:gd name="textAreaLeft" fmla="*/ 39240 w 7391520"/>
              <a:gd name="textAreaRight" fmla="*/ 7352280 w 7391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814" h="21600">
                <a:moveTo>
                  <a:pt x="0" y="0"/>
                </a:moveTo>
                <a:lnTo>
                  <a:pt x="261814" y="0"/>
                </a:lnTo>
                <a:lnTo>
                  <a:pt x="261814" y="21600"/>
                </a:lnTo>
                <a:lnTo>
                  <a:pt x="0" y="21600"/>
                </a:lnTo>
                <a:close/>
              </a:path>
              <a:path fill="lightenLess" w="261814" h="21600">
                <a:moveTo>
                  <a:pt x="0" y="0"/>
                </a:moveTo>
                <a:lnTo>
                  <a:pt x="261814" y="0"/>
                </a:lnTo>
                <a:lnTo>
                  <a:pt x="260414" y="1400"/>
                </a:lnTo>
                <a:lnTo>
                  <a:pt x="1400" y="1400"/>
                </a:lnTo>
                <a:close/>
              </a:path>
              <a:path fill="darken" w="261814" h="21600">
                <a:moveTo>
                  <a:pt x="261814" y="0"/>
                </a:moveTo>
                <a:lnTo>
                  <a:pt x="261814" y="21600"/>
                </a:lnTo>
                <a:lnTo>
                  <a:pt x="260414" y="20200"/>
                </a:lnTo>
                <a:lnTo>
                  <a:pt x="260414" y="1400"/>
                </a:lnTo>
                <a:close/>
              </a:path>
              <a:path fill="darkenLess" w="261814" h="21600">
                <a:moveTo>
                  <a:pt x="261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414" y="20200"/>
                </a:lnTo>
                <a:close/>
              </a:path>
              <a:path fill="lighten" w="261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054"/>
          <p:cNvSpPr/>
          <p:nvPr/>
        </p:nvSpPr>
        <p:spPr>
          <a:xfrm>
            <a:off x="152280" y="2286000"/>
            <a:ext cx="7467840" cy="609480"/>
          </a:xfrm>
          <a:custGeom>
            <a:avLst/>
            <a:gdLst>
              <a:gd name="textAreaLeft" fmla="*/ 39240 w 7467840"/>
              <a:gd name="textAreaRight" fmla="*/ 7428600 w 7467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4517" h="21600">
                <a:moveTo>
                  <a:pt x="0" y="0"/>
                </a:moveTo>
                <a:lnTo>
                  <a:pt x="264517" y="0"/>
                </a:lnTo>
                <a:lnTo>
                  <a:pt x="264517" y="21600"/>
                </a:lnTo>
                <a:lnTo>
                  <a:pt x="0" y="21600"/>
                </a:lnTo>
                <a:close/>
              </a:path>
              <a:path fill="lightenLess" w="264517" h="21600">
                <a:moveTo>
                  <a:pt x="0" y="0"/>
                </a:moveTo>
                <a:lnTo>
                  <a:pt x="264517" y="0"/>
                </a:lnTo>
                <a:lnTo>
                  <a:pt x="263117" y="1400"/>
                </a:lnTo>
                <a:lnTo>
                  <a:pt x="1400" y="1400"/>
                </a:lnTo>
                <a:close/>
              </a:path>
              <a:path fill="darken" w="264517" h="21600">
                <a:moveTo>
                  <a:pt x="264517" y="0"/>
                </a:moveTo>
                <a:lnTo>
                  <a:pt x="264517" y="21600"/>
                </a:lnTo>
                <a:lnTo>
                  <a:pt x="263117" y="20200"/>
                </a:lnTo>
                <a:lnTo>
                  <a:pt x="263117" y="1400"/>
                </a:lnTo>
                <a:close/>
              </a:path>
              <a:path fill="darkenLess" w="264517" h="21600">
                <a:moveTo>
                  <a:pt x="26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17" y="20200"/>
                </a:lnTo>
                <a:close/>
              </a:path>
              <a:path fill="lighten" w="26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055"/>
          <p:cNvSpPr/>
          <p:nvPr/>
        </p:nvSpPr>
        <p:spPr>
          <a:xfrm>
            <a:off x="1371600" y="350532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Arial"/>
              </a:rPr>
              <a:t>Prod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Arial"/>
              </a:rPr>
              <a:t>Mach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056"/>
          <p:cNvSpPr/>
          <p:nvPr/>
        </p:nvSpPr>
        <p:spPr>
          <a:xfrm>
            <a:off x="3924360" y="121932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Arial"/>
              </a:rPr>
              <a:t>Tâ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057"/>
          <p:cNvSpPr/>
          <p:nvPr/>
        </p:nvSpPr>
        <p:spPr>
          <a:xfrm>
            <a:off x="6553080" y="350532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Arial"/>
              </a:rPr>
              <a:t>Utilisate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069"/>
          <p:cNvGrpSpPr/>
          <p:nvPr/>
        </p:nvGrpSpPr>
        <p:grpSpPr>
          <a:xfrm>
            <a:off x="76320" y="838080"/>
            <a:ext cx="3257640" cy="1600200"/>
            <a:chOff x="76320" y="838080"/>
            <a:chExt cx="3257640" cy="1600200"/>
          </a:xfrm>
        </p:grpSpPr>
        <p:sp>
          <p:nvSpPr>
            <p:cNvPr id="75" name="Text Box 2058"/>
            <p:cNvSpPr/>
            <p:nvPr/>
          </p:nvSpPr>
          <p:spPr>
            <a:xfrm>
              <a:off x="76320" y="838080"/>
              <a:ext cx="32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3600" spc="-1" strike="noStrike">
                  <a:solidFill>
                    <a:srgbClr val="009900"/>
                  </a:solidFill>
                  <a:latin typeface="Arial"/>
                </a:rPr>
                <a:t>Environne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2066"/>
            <p:cNvSpPr/>
            <p:nvPr/>
          </p:nvSpPr>
          <p:spPr>
            <a:xfrm>
              <a:off x="457200" y="1447920"/>
              <a:ext cx="1447920" cy="99036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064"/>
          <p:cNvSpPr/>
          <p:nvPr/>
        </p:nvSpPr>
        <p:spPr>
          <a:xfrm>
            <a:off x="2973240" y="2362320"/>
            <a:ext cx="37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3333cc"/>
                </a:solidFill>
                <a:latin typeface="Arial"/>
              </a:rPr>
              <a:t>ACTIVI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065"/>
          <p:cNvSpPr/>
          <p:nvPr/>
        </p:nvSpPr>
        <p:spPr>
          <a:xfrm>
            <a:off x="1295280" y="5335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cc"/>
                </a:solidFill>
                <a:latin typeface="Eurostile"/>
              </a:rPr>
              <a:t>Schéma de l’Ergonom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cc"/>
                </a:solidFill>
                <a:latin typeface="Eurostile"/>
              </a:rPr>
              <a:t>et de l’Analyse d’Activ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67"/>
          <p:cNvSpPr/>
          <p:nvPr/>
        </p:nvSpPr>
        <p:spPr>
          <a:xfrm>
            <a:off x="1881000" y="5284800"/>
            <a:ext cx="6037560" cy="1373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Identifier les Besoins Ré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Et Administrer la preu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(quantifier, qualifier, exemplifier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cc0000"/>
                </a:solidFill>
                <a:latin typeface="Times New Roman"/>
              </a:rPr>
              <a:t>DEMARCHE </a:t>
            </a:r>
            <a:br>
              <a:rPr sz="8000"/>
            </a:br>
            <a:br>
              <a:rPr sz="8000"/>
            </a:br>
            <a:r>
              <a:rPr b="1" lang="en-GB" sz="8000" spc="-1" strike="noStrike">
                <a:solidFill>
                  <a:srgbClr val="cc0000"/>
                </a:solidFill>
                <a:latin typeface="Times New Roman"/>
              </a:rPr>
              <a:t>D’ANALYSE </a:t>
            </a:r>
            <a:br>
              <a:rPr sz="8000"/>
            </a:br>
            <a:br>
              <a:rPr sz="8000"/>
            </a:br>
            <a:r>
              <a:rPr b="1" lang="en-GB" sz="8000" spc="-1" strike="noStrike">
                <a:solidFill>
                  <a:srgbClr val="cc0000"/>
                </a:solidFill>
                <a:latin typeface="Times New Roman"/>
              </a:rPr>
              <a:t>D’ACTIVIT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889280" y="1600200"/>
            <a:ext cx="5349600" cy="375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QUOI REGAR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QUAND REGAR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MENT REGARDER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862560" y="120600"/>
            <a:ext cx="74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Times New Roman"/>
              </a:rPr>
              <a:t>1. Démarche de l’analyse de l’activit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14480" y="1219320"/>
            <a:ext cx="891540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0000"/>
                </a:solidFill>
                <a:latin typeface="Times New Roman"/>
              </a:rPr>
              <a:t>Analyse préalable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par une première exploitation des documents vidéographiques correspondants à l’activité étudi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fr-FR" sz="3600" spc="-1" strike="noStrike">
                <a:solidFill>
                  <a:srgbClr val="cc0000"/>
                </a:solidFill>
                <a:latin typeface="Times New Roman"/>
              </a:rPr>
              <a:t>Analyse détaillée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de l’activité à l’ai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différentes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iels d’analyse ergonomiqu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RONOS - Actogram, CAPT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fr-FR" sz="3600" spc="-1" strike="noStrike">
                <a:solidFill>
                  <a:srgbClr val="cc0000"/>
                </a:solidFill>
                <a:latin typeface="Times New Roman"/>
              </a:rPr>
              <a:t>Interprétation des résultats obtenus.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roblèmes identifié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(Ex. Détermination de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gestes, posture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d’activités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plus fréquemment rencontrées lors de la réalisation de la tâ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fr-FR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commandations et proposition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’évolution du produit /système étudié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889280" y="1600200"/>
            <a:ext cx="5349600" cy="3385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QUOI REGA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QUAND REGA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OMMENT REGARDER?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NO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322640" y="76320"/>
            <a:ext cx="6514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Times New Roman"/>
              </a:rPr>
              <a:t>2. Analyse préalable de l’activit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228600" y="914400"/>
            <a:ext cx="8686800" cy="6002280"/>
            <a:chOff x="228600" y="914400"/>
            <a:chExt cx="8686800" cy="6002280"/>
          </a:xfrm>
        </p:grpSpPr>
        <p:sp>
          <p:nvSpPr>
            <p:cNvPr id="87" name="Rectangle 2"/>
            <p:cNvSpPr/>
            <p:nvPr/>
          </p:nvSpPr>
          <p:spPr>
            <a:xfrm>
              <a:off x="228600" y="1752480"/>
              <a:ext cx="8686800" cy="51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buClr>
                  <a:srgbClr val="000000"/>
                </a:buClr>
                <a:buFont typeface="Wingdings 2" charset="2"/>
                <a:buChar char="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élisation de </a:t>
              </a:r>
              <a:r>
                <a:rPr b="1" i="1" lang="fr-FR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l’activité en terme de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fr-FR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tâches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Identifications des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édures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ur réaliser les différentes tâc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60000"/>
                </a:lnSpc>
                <a:buClr>
                  <a:srgbClr val="000000"/>
                </a:buClr>
                <a:buFont typeface="Wingdings 2" charset="2"/>
                <a:buChar char="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étermination des principales </a:t>
              </a:r>
              <a:r>
                <a:rPr b="1" i="1" lang="fr-FR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phases de l’activit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60000"/>
                </a:lnSpc>
                <a:buClr>
                  <a:srgbClr val="000000"/>
                </a:buClr>
                <a:buFont typeface="Wingdings 2" charset="2"/>
                <a:buChar char="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fr-FR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Repérage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idents, difficultés, intentions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stes,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uvements et des postu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60000"/>
                </a:lnSpc>
                <a:buClr>
                  <a:srgbClr val="000000"/>
                </a:buClr>
                <a:buFont typeface="Wingdings 2" charset="2"/>
                <a:buChar char="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fr-FR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Déterminer les observables pertinents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ur effectuer les analyses à l’aide des différentes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iciels d’analyse ergonomique de l’activité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KRONOS - Actogram, CAPTIV).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380880" y="914400"/>
              <a:ext cx="84582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Wingdings 3"/>
                  <a:ea typeface="Wingdings 3"/>
                </a:rPr>
                <a:t></a:t>
              </a: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une première exploitation des documents vidéograph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43080" y="4343400"/>
            <a:ext cx="8458200" cy="2068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x de la séquence vidéo observ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u protocole d’é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ge de la vidéo en séquences d’observ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fication en pourcentages d’effectifs et de durées des observables sélectionné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428120" y="7632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Times New Roman"/>
              </a:rPr>
              <a:t>3. Analyse détaillée de l’activit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80880" y="1116000"/>
            <a:ext cx="8458200" cy="2855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Times New Roman"/>
              </a:rPr>
              <a:t>Exemple d’utilis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Times New Roman"/>
              </a:rPr>
              <a:t>du logiciel KRONOS - ACT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6:35:17Z</dcterms:created>
  <dc:creator>gtouveno</dc:creator>
  <dc:description/>
  <dc:language>en-US</dc:language>
  <cp:lastModifiedBy>Benoît Roussel</cp:lastModifiedBy>
  <dcterms:modified xsi:type="dcterms:W3CDTF">2012-10-23T07:58:24Z</dcterms:modified>
  <cp:revision>93</cp:revision>
  <dc:subject/>
  <dc:title>UTILISATION DU LOGICIEL KRONOS</dc:title>
</cp:coreProperties>
</file>